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D2B-BBE6-486E-AAC1-EB8F75E5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C1B-DE6A-4243-8C71-5BF01B7D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C5D-16FB-4A27-A15B-77C46450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499-5AA7-4D18-9973-EB2101D4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629C-57FF-4C39-9018-E08864A7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843E-14B9-4221-8630-BBCB03CC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BFA3-FA91-4373-B8B5-DBD26B42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F170-2E49-46CC-9695-CA7EC654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6B74-8C01-4899-9510-D762ED25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AEA7-4A41-4211-B57B-31621824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C674-4575-45DF-9F88-077862B6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927-BB2F-42A1-8D62-05D53846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6F80-3F83-40F2-8AED-9D88CE19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EB51-38D6-45E0-9688-83D1AD93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6017-9602-40FB-9925-E412F3E4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01C9-3635-4193-B573-6365FC49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8B08-A887-4A73-BF6D-FAE2CA58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B45-58E2-454A-9BBF-0B3B5D1A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EE4-4421-4D21-BB8E-2E4BB70F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143-76DE-48D1-AAB8-9647A7BF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BB7-3879-497D-98F5-4CC993EC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B46-9317-4B97-9ACA-648FB13D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145-E808-4B47-BEB1-09466898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28C-5B92-43ED-A883-D05AA47E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F799-407D-458F-A86D-05F0C7E6CDD5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6D13-32DE-45EC-8B66-E286A34964F5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A13D-A71C-40FA-A018-1D162EE9BE9E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E055-1253-4160-8626-17F00DA2EA6B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de.wikipedia.org/wiki/Bild:Anamorphic_lens_illustration_with_stretching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el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 um 1950 (Aufkommen des TV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s Publikum ansprechen  (Inhalte aus dem Leben der Jugendlich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Änderung der Filmmusik: neu Rock, Pop, 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erbesserung der Klangqualität in Kin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 auf Tonträger vermarkt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70er:  wieder synfonische Filmmusik mit grossen Orcheste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80er:  Synthesizer-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rüher Ton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Zeitalter des Fernsehe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etosko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inématograp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appeur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ianis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üst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hrmärk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Wind, Pferdegetrappel, Schritte, et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Nadelt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7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thesi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5480" y="1599840"/>
            <a:ext cx="87152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  (1895 – ca. 1925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rühe Tonfilm  (ca. 1930 –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ilm im Zeitalter des Fernsehens  (ab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Erfindung des Kinetoskops  (Thomas A. Edison) und des Cinématographen (Louis und Auguste Lumiè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5" descr="http://www.filmvorfuehrer.de/images/9/93/Edison_Kinetoscope.jpg"/>
          <p:cNvPicPr/>
          <p:nvPr/>
        </p:nvPicPr>
        <p:blipFill>
          <a:blip r:embed="rId3"/>
          <a:stretch/>
        </p:blipFill>
        <p:spPr>
          <a:xfrm>
            <a:off x="5857920" y="2786040"/>
            <a:ext cx="264780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://www.victorian-cinema.net/cinematographwrench.jpg"/>
          <p:cNvPicPr/>
          <p:nvPr/>
        </p:nvPicPr>
        <p:blipFill>
          <a:blip r:embed="rId4"/>
          <a:stretch/>
        </p:blipFill>
        <p:spPr>
          <a:xfrm>
            <a:off x="544680" y="3286080"/>
            <a:ext cx="4027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zeigten erstmals kurze Filme</a:t>
            </a:r>
            <a:br>
              <a:rPr sz="2800"/>
            </a:b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n Tappeuren live musikalisch unterma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 &amp; 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Möglichkeit, Tonaufnahmen zu mac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die Musik im Film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Lautes Rattern des Projek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Düstere Stimmung erhel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: Film als billige Massenvergnügu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03: durchschnittl. Filmlaufzeit: 9 Minu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10: Dokumentarfilme        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s zu 80 Musik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infonieorchester oder Kinoorgeln (Klangfarben, Geräuscheffek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ue Shee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späten Einsatz des Tonfilm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onwiedergabe schlec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Konzentration auf 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challplatte und Filmstreifen liefen auseinander          keine Synchronitä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329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ntwicklung der Langspielplatte  (Nadeltonverfahr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 Lichttonverfahren: Bild- und Toninformation auf demselbem Streif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rteil beim Vervielfältigen des Fil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chronität bei Filmri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Eingekerbter Pfeil nach rechts 5"/>
          <p:cNvSpPr/>
          <p:nvPr/>
        </p:nvSpPr>
        <p:spPr>
          <a:xfrm>
            <a:off x="1928880" y="364320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Filmbild mit Lichttonspuren in Zackenschrif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4210200"/>
            <a:ext cx="1936800" cy="1076040"/>
          </a:xfrm>
          <a:prstGeom prst="rect">
            <a:avLst/>
          </a:prstGeom>
          <a:ln w="0">
            <a:noFill/>
          </a:ln>
        </p:spPr>
      </p:pic>
      <p:sp>
        <p:nvSpPr>
          <p:cNvPr id="101" name="Eingekerbter Pfeil nach rechts 6"/>
          <p:cNvSpPr/>
          <p:nvPr/>
        </p:nvSpPr>
        <p:spPr>
          <a:xfrm>
            <a:off x="1928880" y="414324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feld 7"/>
          <p:cNvSpPr/>
          <p:nvPr/>
        </p:nvSpPr>
        <p:spPr>
          <a:xfrm>
            <a:off x="993600" y="5715000"/>
            <a:ext cx="743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mpfindliche Filmstreifen (Verschmutzu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400" y="1599840"/>
            <a:ext cx="8715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sante Verbreitung des Tonfil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nzahl Tonkinos: 500 auf 5000 (innert einem Jah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lektroindustrie in USA (v.a. in Hollywood) gewann grossen Einfluss (Patente für Tontechnik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10:33Z</dcterms:created>
  <dc:creator>Pascal Hanselmann</dc:creator>
  <dc:description/>
  <dc:language>en-US</dc:language>
  <cp:lastModifiedBy>***</cp:lastModifiedBy>
  <dcterms:modified xsi:type="dcterms:W3CDTF">2011-06-23T14:34:23Z</dcterms:modified>
  <cp:revision>16</cp:revision>
  <dc:subject/>
  <dc:title>Geschichte der Filmmusik</dc:title>
</cp:coreProperties>
</file>